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79FB-8723-4871-8291-AEEFEFD66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B7D6-EEC5-4486-A12E-E876CF1B6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9DB-2F37-475F-A714-1EC973FE4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B2E-1982-4731-AC1F-34B06A7224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014E-09B8-4B7F-9105-3BF475A91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8393-73D0-4167-9CED-37E6D2A49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A3B3-49C7-4D02-A51B-BF51D3D7BB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58C6-7385-4E05-8895-8F91C83AD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C775-FD54-493B-933C-A852C048C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03D9-818F-438C-879D-E25ED42E5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2A52-2A4B-446D-83A1-B6D69D407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DD1D-B1E9-4EBE-A9EB-5ADA182AC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0E12-A4ED-420D-9893-126EE7A17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F82B-DA98-4563-95FD-BFB71EA38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F99A-B19B-4867-B3A4-E24C51382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4D06-3862-4812-827E-BBDEA5F9D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F5E9-5F26-47A1-AFA6-53358A773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DD64-FD19-42FF-9DE6-E4C9DB3B0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FF66-C98A-4D30-9DDD-07DDA526AF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292D-4127-4253-906F-30A0DDD95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1A6D-958A-4C92-9747-161AF5A53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A0AB-280C-41A8-BFB0-B7E2F2E04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0C6-AC25-4D1F-AB5B-89CA2BE1B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D282-1347-4DB9-BB1E-4A819A35EA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D41D-BC2C-41CC-A1D6-A2F263C95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104D-1971-4D3A-BD97-976042FD9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065A-8123-4CF7-8130-E66A6D8D2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F63F-F022-4743-971C-C66A4B5CF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1A97-7AD3-46B5-AE38-59DEADCC8F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48F8-D86D-4899-9C17-97F65667B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4724-AFA2-4CE0-BC02-15B7BD7DD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9DC-F69A-4DA1-A1EE-1DAF841E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5B1-2D3C-4007-8162-969AEBC5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CD9-14AF-4885-AEE3-33172276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ED6-5D93-4A65-A509-D37CD109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3EFC-D614-451D-953D-871F658D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3608-A89B-4E09-AE45-866E9067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394D-0559-44FF-A233-729AE6D1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66D3-5C49-4AE3-8825-F4946936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3735-B8C8-4407-8D38-63CC33D2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74F0-E41B-4215-9951-9DFE9340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DFA6-A493-4BA7-9E79-06942C7F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86E-2034-4889-A5A4-AF8C83DB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6181-87EE-45F6-8A8E-98B8AFAF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82D5-3F7F-40F0-A112-13D83C8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4942-2E2A-457A-8F7B-C0662C53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7839-E401-4EA9-A2B1-60656FA3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C908-E543-4B09-955A-4537007C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EF90-814B-4572-83C5-064AC78A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1832-C6E4-40DF-B189-A272CF87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BABB-C6F2-4559-8FD4-9A8955C6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F2EC-4031-4F10-9506-E5DFBEF1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34E8-767F-45E0-B65C-075A32B4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81A-A017-4280-96A1-583DF4A7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7CDC-FF6A-4D2F-8812-0782551D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7FAB-08FA-4EEC-B551-E29E765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7EA0-0D6C-4FA3-B47B-C9DF9BD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93349-ABCB-44D5-B1B0-899FFABF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B5D1-A843-45CA-A77D-67406CD2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016C-722A-487D-B4F5-E2ED871F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2F2C-30FD-4809-8591-9314EAA2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FF2-5BF1-4A8F-8F0C-0AEC850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523-6072-494A-B0A1-5CB1510B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1DE-5F19-4CC7-803E-C0387E4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07D-5129-4582-B47C-E7D0B53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14B-F854-48CC-A6F0-D2B26781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C6B-ADA7-4F95-BFA8-900B7CD3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3D31-5DC8-41D2-828F-650CB9E9D8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3105-9D80-4055-9FBA-D5CC3561F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40FD-6D89-4122-BF59-93161D9C31E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bertina"/>
          <p:cNvPicPr/>
          <p:nvPr/>
        </p:nvPicPr>
        <p:blipFill>
          <a:blip r:embed="rId1"/>
          <a:stretch/>
        </p:blipFill>
        <p:spPr>
          <a:xfrm>
            <a:off x="1403280" y="404640"/>
            <a:ext cx="6464520" cy="1133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68360" y="191628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ИСТОРИЯ И ФИЛОСОФИЯ НАУКИ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philoslog.albertina.ru</a:t>
            </a:r>
            <a:br>
              <a:rPr sz="24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ratio.albertina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Предельные основани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Философия исследует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категории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- предельно общие понят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первые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причин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последние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цел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Предельные основания </a:t>
            </a: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скрыты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от нас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•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не даны в наблюдении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•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не могут быть зафиксированы в виде законов науки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•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не могут быть проверены в опыт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Раскрытие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 – обнаружение скрытого, соединяющее рациональные процедуры познания с интуицией и озар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Философия превращает эзотерическое в экзотерическо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332000" y="4076640"/>
            <a:ext cx="6553080" cy="86508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Структура философ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773360"/>
          <a:ext cx="8291520" cy="445752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890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Философ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Пропедев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Лог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История философ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Собственно филосо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Теоретическая филосо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Практическая филосо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13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Прикладная филосо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Философия отдельных областей человеческой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2" name="Picture 73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Философская пропедевтика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Философская пропедевтика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 - науки, содержащие знания, необходимые для любого философского размышления и исследовани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логик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история философ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Теоретическая философия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611280" y="2708280"/>
            <a:ext cx="79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Теоретическая философия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– учение о бытии, его видах и их познан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1476360" y="3645000"/>
            <a:ext cx="7488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Times New Roman"/>
              </a:rPr>
              <a:t>онтология</a:t>
            </a:r>
            <a:r>
              <a:rPr b="0" lang="ru-RU" sz="2200" spc="-1" strike="noStrike">
                <a:solidFill>
                  <a:srgbClr val="660000"/>
                </a:solidFill>
                <a:latin typeface="Times New Roman"/>
              </a:rPr>
              <a:t> – учение о бытии и его видах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Times New Roman"/>
              </a:rPr>
              <a:t>метафизика</a:t>
            </a:r>
            <a:r>
              <a:rPr b="0" lang="ru-RU" sz="2200" spc="-1" strike="noStrike">
                <a:solidFill>
                  <a:srgbClr val="660000"/>
                </a:solidFill>
                <a:latin typeface="Times New Roman"/>
              </a:rPr>
              <a:t> – учение о первые причинах бытия и его последних целях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Times New Roman"/>
              </a:rPr>
              <a:t>теория познания</a:t>
            </a:r>
            <a:r>
              <a:rPr b="0" lang="ru-RU" sz="2200" spc="-1" strike="noStrike">
                <a:solidFill>
                  <a:srgbClr val="660000"/>
                </a:solidFill>
                <a:latin typeface="Times New Roman"/>
              </a:rPr>
              <a:t> – учение о возможности и характеристиках познания бытия в рамках субъект-объектных отношени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Times New Roman"/>
              </a:rPr>
              <a:t>аксиология</a:t>
            </a:r>
            <a:r>
              <a:rPr b="0" lang="ru-RU" sz="2200" spc="-1" strike="noStrike">
                <a:solidFill>
                  <a:srgbClr val="660000"/>
                </a:solidFill>
                <a:latin typeface="Times New Roman"/>
              </a:rPr>
              <a:t> – учение о ценностях как виде бытия и их роли в познан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актическая философия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80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Практическая философия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учение о предельно общих характеристиках человеческой деятельности, основанное на универсальных ценностя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042920" y="3716280"/>
            <a:ext cx="748836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этика</a:t>
            </a: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 – учение о человеческой деятельности, основанной на ценности добр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эстетика</a:t>
            </a: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 – учение о человеческой деятельности, основанной на ценности красот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социальная философия</a:t>
            </a: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 – учение о человеческой деятельности, основанной на ценности свобод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философская антропология</a:t>
            </a: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 – учение о человеческой деятельности, основанной на ценности гума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кладная философия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2492280"/>
            <a:ext cx="8280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Прикладная философия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– философские учения об отдельных областях человеческ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1476360" y="3357720"/>
            <a:ext cx="72709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философии – метафилософ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нау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культур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пра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религи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образован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прикладная эти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эстетика промышленной деятельности (дизайн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И ТАК ДАЛ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7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920" y="2781360"/>
            <a:ext cx="86421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труктура философии науки определяется структурой философии в применении к науке, ее объектам и ее развит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956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2. Философия науки как прикладная философ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Философия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есть прикладная философия, состоящая в применении общих философских знаний к науке в целом и ее развит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539640" y="2492280"/>
            <a:ext cx="8136000" cy="144144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7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9567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екция 1. Введение в философию нау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859280" y="189000"/>
            <a:ext cx="39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90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I. Пропедевтика философии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Логика науки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учение о логической структуре научного знания и средствах обоснования научных полож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а структура научной теор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а структура языка нау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ы логические отношения между эмпирическими и теоретическими высказывания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ы логические отношения между эмпирическими и теоретическими термина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ы логические отношения между научными теория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а роль дедуктивных и недедуктивных рассуждений в обосновании утверждений нау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ы возможные модели обоснования и опровержения научных высказыва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2781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История философии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эволюции философских концепций нау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956720" cy="50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90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II. Теоретическая философия науки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8"/>
          <p:cNvSpPr/>
          <p:nvPr/>
        </p:nvSpPr>
        <p:spPr>
          <a:xfrm>
            <a:off x="468360" y="270828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1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Онтология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б объектах науки и их ви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971640" y="3933720"/>
            <a:ext cx="7993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Что является объектом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 чем различие предметной области исследования и объекта исследова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 онтологический статус абстракций и идеализаци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ы онтологические предпосылки языка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2133720"/>
            <a:ext cx="777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Метафизика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первых причинах науки и ее конечных цел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971640" y="3357720"/>
            <a:ext cx="7920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Почему возникает нау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конечная цель науки в космос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ие причины в мире поддерживают ее существован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предназначение науки в общем процессе жизни космоса и человека в не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озможен ли научный прогресс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озможно ли прекращение развития науки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 чем состоит оправдание науки как вида человеческой деятель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395280" y="184464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3. 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Теория научного познания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 – учение о взаимодействии субъекта и объекта научного познания и характеристиках научного зн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71640" y="2924280"/>
            <a:ext cx="7993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о взаимодействие субъекта и объекта 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им образом изменяются субъект и объект 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й вклад вносит наука в познаваемость мир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ы пределы 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им образом проводится линия демаркации научного и не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а структура научного 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а структура научного исследов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 способ взаимодействия теоретического и эмпирического уровня 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 возможна научная истина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ы способы обоснования и опровержения научных высказываний и систем высказываний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В чем состоит научная рациональность и каково ее отношение к другим видам рациональн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Что такое новое знание и как возможно порождение нового знания в наук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ую роль играет иррациональная компонента субъекта познания в порождении нового 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468360" y="2060640"/>
            <a:ext cx="828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4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Аксиология научного познания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роли ценностей в развитии нау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971640" y="3213000"/>
            <a:ext cx="7993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ы базисные ценности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озможна ли наука свободная от ценност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 чем состоит регулятивная роль истины как главной ценности научного позна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озможно ли рассматривать науку как ценность? Сциентизм и антисциент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90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III. Практическая философия науки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468360" y="2997360"/>
            <a:ext cx="828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1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Этика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роли нравственных ценностей в развитии науки и ее прилож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1116000" y="4076640"/>
            <a:ext cx="7848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Являются ли нравственные ценности регуляторами научной деятель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Могут ли нравственные ценности составлять мотивы научной деятель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Налагают ли нравственные ценности ограничения на применения науки в практической жизни люд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Существуют ли нравственные ограничения в области теоретической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95280" y="206064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Эстетика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красоте научных знаний как эвристическом средстве построения и обоснования научных теор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1116000" y="3645000"/>
            <a:ext cx="78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Может ли красота научных положений и структур свидетельствовать об их истин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соотношение художественного и научного творчеств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ую роль играет интуиция прекрасного в порождении научных знани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Есть ли место гению в наук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68360" y="1844640"/>
            <a:ext cx="828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3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оциальная философия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взаимодействии субъекта научного познания с другими субъектами в социальном контек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971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Может ли быть общество субъектом научного позна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зависимость субъекта научного познания от типа общества, в котором он живе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Зависит ли научная истина от обществ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ую роль научное знание играет в развитии обществ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социальная структура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соотношение традиций и революций в развитии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роль в развитии общества сциентизма и антисциентизм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68360" y="206064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4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Философская антропология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субъекте научного знания как челове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971640" y="3141720"/>
            <a:ext cx="7993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лечет ли за собой развитие науки развитие челове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влияние личности ученого на развитие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влияние науки и научных знаний на развитие челове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снована научная картина мира на особенностях человеческого субъек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роль сознательной и бессознательной компоненты психики человека в развитии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итерату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Алексеев П.В., Панин А.В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: Учебник. – 3-е изд. – М.: Проспект, 2003. – С. 4-7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Брюшинкин В.Н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Логика, мышление, информация. -Л.: Изд-во ЛГУ, 1988. С. 6-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икифоров А.Л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 науки: история и методология. - М.: Дом интеллектуальной книги, 1998. С. 9-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Ракитов А.И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ские проблемы науки. – М.: Мысль, 1977. С. 18-5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Степин В.С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 // Новая философская энциклопедия: В 4 т. Т. 4. – М.: Мысль, 2001. - С. 195-2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0000"/>
                </a:solidFill>
                <a:latin typeface="Georgia"/>
              </a:rPr>
              <a:t>Степин В.С. Философия науки. Общие проблемы: учебник для аспирантов и соискателей ученой степени кандидата наук. – М.: Гардарики, 200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Философия в современном мире. Философия и наука. /Под ред. Л.Н. Митрохина, Э.Г. Юдина, Н.С. Юлиной. –М. : Наука, 1972. С. 146-249. (Статьи Э.Г. Юдина, В.А. Лекторского, В.С. Швырев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Философия науки. // Новая философская энциклопедия. – М.: Мысль, 2001. Т. IV. С. 218-22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68360" y="1916280"/>
          <a:ext cx="8229600" cy="223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16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Философское учение о наук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Философия нау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Методология нау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Line 13"/>
          <p:cNvSpPr/>
          <p:nvPr/>
        </p:nvSpPr>
        <p:spPr>
          <a:xfrm flipH="1">
            <a:off x="2627280" y="2781360"/>
            <a:ext cx="1944720" cy="647640"/>
          </a:xfrm>
          <a:prstGeom prst="line">
            <a:avLst/>
          </a:prstGeom>
          <a:ln w="1584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4572000" y="2781360"/>
            <a:ext cx="1871640" cy="647640"/>
          </a:xfrm>
          <a:prstGeom prst="line">
            <a:avLst/>
          </a:prstGeom>
          <a:ln w="1584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539640" y="458136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ahoma"/>
              </a:rPr>
              <a:t>Философия науки – прикладная философ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9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1. Понятие и структура философи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8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7848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Философия науки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есть прикладная философия, состоящая в применении общих философских знаний к науке в целом и ее развит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1187280" y="3716280"/>
            <a:ext cx="73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4960" indent="-540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Times New Roman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Что такое прикладная философ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-540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Times New Roman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Какова структура общих философских зна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-540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Times New Roman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Какая структура философии науки как прикладной философ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395280" y="2781360"/>
            <a:ext cx="8353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Философия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– это систематическая рефлексивная духовная деятельность,  направленная на раскрытие предельных оснований жизни мира и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900000" y="2637000"/>
            <a:ext cx="7272360" cy="208728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7956720" cy="2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Анализ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Мир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 - совокупность всего 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возможного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 бы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то, что было, то, что могло быт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то, что есть, то, что  может быт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то, что будет, то, что возможно буд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Человек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 – разумная чувствующая часть ми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Разум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- способность, позволяющая части мира (идеально) вмещать в себя весь ми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Человек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- часть мира, наделенная </a:t>
            </a: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чувствами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и обладающая способностью к </a:t>
            </a: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рефлексии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Рефлексия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- способность размышлять по поводу своего собственного мышления («Познай самого себя!»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524"/>
              </a:spcBef>
              <a:buClr>
                <a:srgbClr val="660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00"/>
                </a:solidFill>
                <a:latin typeface="Georgia"/>
              </a:rPr>
              <a:t>Рефлексия</a:t>
            </a: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 отличает человека от животног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Чувства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– непосредственная связь разумного существа с внешним миро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524"/>
              </a:spcBef>
              <a:buClr>
                <a:srgbClr val="660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Чувства отличали бы человека от ангелов и других духовных сущест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Жизнь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, потому что человек – живая часть ми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340000" y="256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Verdana"/>
              </a:rPr>
              <a:t>Духовная 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2050920" y="2997360"/>
            <a:ext cx="2376720" cy="5047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4427640" y="2997360"/>
            <a:ext cx="2376360" cy="5047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971640" y="35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Verdana"/>
              </a:rPr>
              <a:t>Теоретиче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059520" y="357336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Verdana"/>
              </a:rPr>
              <a:t>Практиче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826920" y="443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Verdana"/>
              </a:rPr>
              <a:t>создает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362560" y="43657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Verdana"/>
              </a:rPr>
              <a:t>создает правила поведения,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Verdana"/>
              </a:rPr>
              <a:t>образцы, планы и т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2050920" y="3933720"/>
            <a:ext cx="0" cy="4334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7020000" y="3933720"/>
            <a:ext cx="0" cy="4334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0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В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философи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применяются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328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рациональные логические метод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бщенаучные процедуры и приемы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рациональная и иррациональная ве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эстетическая рефлекс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этические сообра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Философия не является нау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Философия -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интетическая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духовная деятель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1258920" y="2637000"/>
            <a:ext cx="6697800" cy="151128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49880" y="4581360"/>
            <a:ext cx="76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Синтетический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объединяющий разнородное.</a:t>
            </a:r>
            <a:r>
              <a:rPr b="0" lang="ru-RU" sz="18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14:36Z</dcterms:created>
  <dc:creator>David</dc:creator>
  <dc:description/>
  <dc:language>en-US</dc:language>
  <cp:lastModifiedBy>Bryush</cp:lastModifiedBy>
  <dcterms:modified xsi:type="dcterms:W3CDTF">2009-04-19T20:57:05Z</dcterms:modified>
  <cp:revision>13</cp:revision>
  <dc:subject/>
  <dc:title>Слайд 1</dc:title>
</cp:coreProperties>
</file>